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02040" y="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941076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D4AF-F293-4087-86ED-D38BE5E0C4B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 model 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 to create a model Mb from Ma. This is a trans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Mb (target elements) are created from elements of Ma (source elem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 5, 6) Let us look at the metamodels. Ma conforms to MMa and Mb to MMb. Both MMa and MMb conform to the metameta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implicity, the meta relations between elements of Ma and Mb and their meta elements in MMa and MMb is represented by a colo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The relations between source elements and target elements can be grouped and associated to transformation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Let us repreent These rules as a model elements of a MMa2MMb.atl transformation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The transformation model conforms to a transformation metamodel: AT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A086-0C4E-46C4-B311-BB66BF20C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D582-0BC6-4FAB-AFC3-1C9D746B8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7357-10C3-4DC6-B167-8D4ED1C0B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51E3-E60E-4B10-A03F-918D54443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6E99-C2AF-4758-89BD-F89F8226BB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C5D9-F1A2-4194-8A92-A285009C6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F256-3897-4762-B90E-4EBD5F92C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005A-E8FC-4C55-90DA-A76BEFC8D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B0C7-4CFF-48C8-AB03-F4CA17B05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4EC5-6039-49D4-BFCA-8A05A2CB2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BED8-1F44-4069-B248-C702E368A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DCC7-FA93-409D-843D-C1FC59996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3070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2"/>
                </a:solidFill>
                <a:latin typeface="Comic Sans MS"/>
              </a:rPr>
              <a:t>June 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Transforming models with 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6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14492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7EED041C-5590-402C-8342-CC86F3722D28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v-nantes.fr/index.j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Comic Sans MS"/>
              </a:rPr>
              <a:t>Transforming models with AT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The A</a:t>
            </a:r>
            <a:r>
              <a:rPr b="1" lang="en-US" sz="2400" spc="-1" strike="noStrike">
                <a:solidFill>
                  <a:srgbClr val="000042"/>
                </a:solidFill>
                <a:latin typeface="Comic Sans MS"/>
              </a:rPr>
              <a:t>TLAS</a:t>
            </a: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 Transformatio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iversité de Nan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9360" y="6191280"/>
            <a:ext cx="1228680" cy="6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00CF-8EB0-431E-BBAB-E2A1AA6DB0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ource models and target models are distinc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urc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models a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-onl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(they can only be navigated, not modified)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models a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rite-onl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(they cannot be navigated)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language is a declarative-imperative hybrid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clarative part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atche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rules with automatic traceability support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de-effect free navigation (and query) language: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CL 2.0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mperative part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lle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rules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tion block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commended programming style: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declarativ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72A4-BD96-4AE8-9735-A9FE9C0C02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overview (continue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declarative rule specifi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source pattern to b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ched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n the source model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target pattern to be created in the target models for each match during rul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imperative rule is basically a procedur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 is called by its name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 may take argument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t can contai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declarative target pattern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 action block (i.e. a sequence of statements)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Both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020E-657E-4DC1-91FD-0FE7672FC3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overview (continued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pplying a declarative rule mea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reating the specified target element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itializing the properties of the newly created element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re are three types of declarative rul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ndard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rules that are appli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nce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for each match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given set of elements may only be matched by one standard rul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z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rules that are applie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 many time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for each match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it is referred to from other rules (possibly never for some matches)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nique lazy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rules that are applied at most once for each match and only if it is referred to from other rule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2647-12E6-4DB2-BE55-A692839862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clarative rules: source patter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The source pattern is composed of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labeled set of types coming from the source metamodels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guard (Boolean expression) used to filter matches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 match corresponds to a set of elements coming from the source models that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re of the types specified in the source pattern (one element for each type)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atisfy the guard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0A73-DA16-488D-AE3C-F4300BE771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clarative rules: target patter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888840"/>
            <a:ext cx="84582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The target pattern is composed of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labeled set of types coming from the target metamodels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 each element of this set, a set of bindings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 binding specifies the initialization of a property of a target element using an expression.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For each match, the target pattern is applied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Elements are created in the target models (one for each type of the target pattern),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arget elements are initialized by executing the bindings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First evaluating their value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n assigning this value to the corresponding propert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0D2E-33EE-4998-822D-67EEF1D341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ecution order of declarative 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clarative ATL frees the developer from specifying execution order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order in which rules are matched and applied is not specifi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Remark: the match of a lazy or unique lazy rules must be referred to before the rule is appli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order in which bindings are applied is not specifi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execution of declarative rules can however be kept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deterministic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he execution of a rule cannot change source model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t cannot change a match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 elements are not navigab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execution of a binding cannot change the value of another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DB85-27C9-450F-9636-46872BAE62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verview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urce meta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 metamodel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ule Class2Tabl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ule </a:t>
            </a: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ingleValuedAttribute2Colum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Rule MultiValuedAttribute2Colum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100E-991C-488E-94AE-BD746147B4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source metamodel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a simplification of class diagra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target metamodel </a:t>
            </a:r>
            <a:r>
              <a:rPr b="0" i="1" lang="en-US" sz="2500" spc="-1" strike="noStrike">
                <a:solidFill>
                  <a:srgbClr val="000066"/>
                </a:solidFill>
                <a:latin typeface="Comic Sans MS"/>
              </a:rPr>
              <a:t>Relational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a simplification of the relational mode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declaration of the transformation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7f0055"/>
                </a:solidFill>
                <a:latin typeface="Comic Sans MS"/>
              </a:rPr>
              <a:t>mod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Class2Relational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7f0055"/>
                </a:solidFill>
                <a:latin typeface="Comic Sans MS"/>
              </a:rPr>
              <a:t>create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out : Relational </a:t>
            </a:r>
            <a:r>
              <a:rPr b="1" lang="en-GB" sz="2500" spc="-1" strike="noStrike">
                <a:solidFill>
                  <a:srgbClr val="7f0055"/>
                </a:solidFill>
                <a:latin typeface="Comic Sans MS"/>
              </a:rPr>
              <a:t>from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Min : Class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he transformation excerpts used in this presentation come from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http://www.eclipse.org/gmt/atl/atlTransformations/#Class2Relationa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C061-C784-4B9E-95DC-FA850C1C63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74840" y="884160"/>
            <a:ext cx="7980120" cy="54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ource: the Class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-400680" y="592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6040" y="61484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98800" y="1060560"/>
            <a:ext cx="159372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98800" y="1060560"/>
            <a:ext cx="1593720" cy="95076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68880" y="1111320"/>
            <a:ext cx="82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amedE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63400" y="104292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16080" y="1382760"/>
            <a:ext cx="1560600" cy="14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66480" y="1469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620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0800" y="1469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9352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96400" y="1469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572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4640" y="1469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96800" y="1395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98800" y="3154320"/>
            <a:ext cx="1722240" cy="95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8800" y="3154320"/>
            <a:ext cx="1722240" cy="9511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49520" y="3201840"/>
            <a:ext cx="8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ass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25320" y="31338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16080" y="3476520"/>
            <a:ext cx="168912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4767120"/>
            <a:ext cx="183528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43640" y="4767120"/>
            <a:ext cx="1835280" cy="9493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74640" y="4818240"/>
            <a:ext cx="74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89240" y="47498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59480" y="5087880"/>
            <a:ext cx="180360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09880" y="51753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0960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06000" y="5175360"/>
            <a:ext cx="90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val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7828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8160" y="517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748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54600" y="517536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510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7560" y="2011320"/>
            <a:ext cx="4827600" cy="2738520"/>
          </a:xfrm>
          <a:custGeom>
            <a:avLst/>
            <a:gdLst/>
            <a:ahLst/>
            <a:rect l="l" t="t" r="r" b="b"/>
            <a:pathLst>
              <a:path w="3041" h="1725">
                <a:moveTo>
                  <a:pt x="3041" y="1725"/>
                </a:moveTo>
                <a:lnTo>
                  <a:pt x="3041" y="304"/>
                </a:lnTo>
                <a:lnTo>
                  <a:pt x="0" y="304"/>
                </a:lnTo>
                <a:lnTo>
                  <a:pt x="0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7560" y="2011320"/>
            <a:ext cx="15840" cy="112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90720" y="201132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1040" y="3621240"/>
            <a:ext cx="3251160" cy="1128600"/>
          </a:xfrm>
          <a:custGeom>
            <a:avLst/>
            <a:gdLst/>
            <a:ahLst/>
            <a:rect l="l" t="t" r="r" b="b"/>
            <a:pathLst>
              <a:path w="2048" h="711">
                <a:moveTo>
                  <a:pt x="2048" y="711"/>
                </a:moveTo>
                <a:lnTo>
                  <a:pt x="2048" y="0"/>
                </a:lnTo>
                <a:lnTo>
                  <a:pt x="0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21040" y="3541680"/>
            <a:ext cx="160560" cy="79560"/>
          </a:xfrm>
          <a:custGeom>
            <a:avLst/>
            <a:gdLst/>
            <a:ahLst/>
            <a:rect l="l" t="t" r="r" b="b"/>
            <a:pathLst>
              <a:path w="101" h="50">
                <a:moveTo>
                  <a:pt x="101" y="0"/>
                </a:moveTo>
                <a:lnTo>
                  <a:pt x="0" y="50"/>
                </a:lnTo>
                <a:lnTo>
                  <a:pt x="101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1040" y="3621240"/>
            <a:ext cx="160560" cy="82440"/>
          </a:xfrm>
          <a:custGeom>
            <a:avLst/>
            <a:gdLst/>
            <a:ahLst/>
            <a:rect l="l" t="t" r="r" b="b"/>
            <a:pathLst>
              <a:path w="101" h="52">
                <a:moveTo>
                  <a:pt x="101" y="52"/>
                </a:moveTo>
                <a:lnTo>
                  <a:pt x="0" y="0"/>
                </a:lnTo>
                <a:lnTo>
                  <a:pt x="101" y="5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2000" y="375588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57080" y="368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5840" y="3755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87360" y="3681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0880" y="4765680"/>
            <a:ext cx="159372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0880" y="4765680"/>
            <a:ext cx="1593720" cy="9493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37880" y="481824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09000" y="47498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720" y="5087880"/>
            <a:ext cx="156204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41680" y="4772160"/>
            <a:ext cx="159372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48160" y="4767120"/>
            <a:ext cx="1592280" cy="94932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95720" y="481824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5440" y="474984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5087880"/>
            <a:ext cx="1560600" cy="18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0000" y="4105440"/>
            <a:ext cx="1447560" cy="644400"/>
          </a:xfrm>
          <a:custGeom>
            <a:avLst/>
            <a:gdLst/>
            <a:ahLst/>
            <a:rect l="l" t="t" r="r" b="b"/>
            <a:pathLst>
              <a:path w="912" h="406">
                <a:moveTo>
                  <a:pt x="0" y="406"/>
                </a:moveTo>
                <a:lnTo>
                  <a:pt x="0" y="203"/>
                </a:lnTo>
                <a:lnTo>
                  <a:pt x="912" y="203"/>
                </a:lnTo>
                <a:lnTo>
                  <a:pt x="912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87560" y="4105440"/>
            <a:ext cx="1447920" cy="644400"/>
          </a:xfrm>
          <a:custGeom>
            <a:avLst/>
            <a:gdLst/>
            <a:ahLst/>
            <a:rect l="l" t="t" r="r" b="b"/>
            <a:pathLst>
              <a:path w="912" h="406">
                <a:moveTo>
                  <a:pt x="912" y="406"/>
                </a:moveTo>
                <a:lnTo>
                  <a:pt x="912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0" y="122"/>
                </a:lnTo>
                <a:lnTo>
                  <a:pt x="122" y="122"/>
                </a:lnTo>
                <a:lnTo>
                  <a:pt x="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0720" y="41054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122" y="122"/>
                </a:moveTo>
                <a:lnTo>
                  <a:pt x="61" y="0"/>
                </a:lnTo>
                <a:lnTo>
                  <a:pt x="0" y="122"/>
                </a:lnTo>
                <a:lnTo>
                  <a:pt x="122" y="122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4320" y="53895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57080" y="5532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60200" y="59040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40440" y="5232240"/>
            <a:ext cx="1287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40440" y="5153040"/>
            <a:ext cx="322200" cy="160200"/>
          </a:xfrm>
          <a:custGeom>
            <a:avLst/>
            <a:gdLst/>
            <a:ahLst/>
            <a:rect l="l" t="t" r="r" b="b"/>
            <a:pathLst>
              <a:path w="203" h="101">
                <a:moveTo>
                  <a:pt x="102" y="0"/>
                </a:moveTo>
                <a:lnTo>
                  <a:pt x="0" y="50"/>
                </a:lnTo>
                <a:lnTo>
                  <a:pt x="102" y="101"/>
                </a:lnTo>
                <a:lnTo>
                  <a:pt x="203" y="50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40440" y="5153040"/>
            <a:ext cx="322200" cy="160200"/>
          </a:xfrm>
          <a:custGeom>
            <a:avLst/>
            <a:gdLst/>
            <a:ahLst/>
            <a:rect l="l" t="t" r="r" b="b"/>
            <a:pathLst>
              <a:path w="203" h="101">
                <a:moveTo>
                  <a:pt x="0" y="50"/>
                </a:moveTo>
                <a:lnTo>
                  <a:pt x="102" y="0"/>
                </a:lnTo>
                <a:lnTo>
                  <a:pt x="203" y="50"/>
                </a:lnTo>
                <a:lnTo>
                  <a:pt x="102" y="101"/>
                </a:lnTo>
                <a:lnTo>
                  <a:pt x="0" y="50"/>
                </a:lnTo>
              </a:path>
            </a:pathLst>
          </a:custGeom>
          <a:noFill/>
          <a:ln cap="rnd"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08040" y="4884840"/>
            <a:ext cx="25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03520" y="48099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1320" y="48848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82840" y="48099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40160" y="53690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06400" y="52941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3680" y="5560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49480" y="54864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55240" y="5560920"/>
            <a:ext cx="61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7800" y="54864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5960" y="55609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43200" y="54864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70760" y="536904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38400" y="52941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2720" y="506736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77680" y="50626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9480" y="50626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6E3B-0B47-4DBB-B6BF-A87AAFA580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9840" y="736560"/>
            <a:ext cx="861372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packag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bstract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El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ttribu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2a00ff"/>
                </a:solidFill>
                <a:latin typeface="Comic Sans MS"/>
              </a:rPr>
              <a:t>String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bstract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Elt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Data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rdered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ontainer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ibut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ibut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El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ttribu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multiValued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2a00ff"/>
                </a:solidFill>
                <a:latin typeface="Comic Sans MS"/>
              </a:rPr>
              <a:t>Boolean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ifie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lass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att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3366"/>
                </a:solidFill>
                <a:latin typeface="Comic Sans MS"/>
              </a:rPr>
              <a:t>*For more information on KM3 see http://www.eclipse.org/gmt/am3/zoos/atlanticZoo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The Class Metamodel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n KM3*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95480" y="588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13320" y="273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13360" y="703440"/>
            <a:ext cx="3079800" cy="21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771480"/>
            <a:ext cx="614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40480" y="771480"/>
            <a:ext cx="61452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29840" y="792000"/>
            <a:ext cx="2948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NamedEl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09920" y="7635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6960" y="895320"/>
            <a:ext cx="60156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85480" y="92880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580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34800" y="928800"/>
            <a:ext cx="159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924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7440" y="92880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0976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22360" y="928800"/>
            <a:ext cx="1666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82920" y="9000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40480" y="1579680"/>
            <a:ext cx="6634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1579680"/>
            <a:ext cx="663480" cy="36648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1160" y="1598760"/>
            <a:ext cx="28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Classifi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33680" y="15699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46960" y="1703520"/>
            <a:ext cx="65088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580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1452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4008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83080" y="170640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17000" y="2200320"/>
            <a:ext cx="707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17000" y="2200320"/>
            <a:ext cx="70776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463600" y="2220840"/>
            <a:ext cx="267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18120" y="219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3120" y="2324160"/>
            <a:ext cx="69552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2000" y="235728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0196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9880" y="2357280"/>
            <a:ext cx="320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multivalu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3532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44680" y="235728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6736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4200" y="2357280"/>
            <a:ext cx="23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10000" y="2328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43600" y="1138320"/>
            <a:ext cx="1863720" cy="1055520"/>
          </a:xfrm>
          <a:custGeom>
            <a:avLst/>
            <a:gdLst/>
            <a:ahLst/>
            <a:rect l="l" t="t" r="r" b="b"/>
            <a:pathLst>
              <a:path w="1174" h="665">
                <a:moveTo>
                  <a:pt x="1174" y="665"/>
                </a:moveTo>
                <a:lnTo>
                  <a:pt x="1174" y="117"/>
                </a:lnTo>
                <a:lnTo>
                  <a:pt x="0" y="117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0" y="1138320"/>
            <a:ext cx="648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07240" y="11383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3960" y="1758960"/>
            <a:ext cx="1255680" cy="434880"/>
          </a:xfrm>
          <a:custGeom>
            <a:avLst/>
            <a:gdLst/>
            <a:ahLst/>
            <a:rect l="l" t="t" r="r" b="b"/>
            <a:pathLst>
              <a:path w="791" h="274">
                <a:moveTo>
                  <a:pt x="791" y="274"/>
                </a:moveTo>
                <a:lnTo>
                  <a:pt x="791" y="0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03960" y="1727280"/>
            <a:ext cx="61920" cy="31680"/>
          </a:xfrm>
          <a:custGeom>
            <a:avLst/>
            <a:gdLst/>
            <a:ahLst/>
            <a:rect l="l" t="t" r="r" b="b"/>
            <a:pathLst>
              <a:path w="39" h="20">
                <a:moveTo>
                  <a:pt x="39" y="0"/>
                </a:moveTo>
                <a:lnTo>
                  <a:pt x="0" y="20"/>
                </a:lnTo>
                <a:lnTo>
                  <a:pt x="39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03960" y="1758960"/>
            <a:ext cx="61920" cy="31680"/>
          </a:xfrm>
          <a:custGeom>
            <a:avLst/>
            <a:gdLst/>
            <a:ahLst/>
            <a:rect l="l" t="t" r="r" b="b"/>
            <a:pathLst>
              <a:path w="39" h="20">
                <a:moveTo>
                  <a:pt x="39" y="20"/>
                </a:moveTo>
                <a:lnTo>
                  <a:pt x="0" y="0"/>
                </a:lnTo>
                <a:lnTo>
                  <a:pt x="39" y="2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14480" y="1809720"/>
            <a:ext cx="120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32200" y="17812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48960" y="180972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9280" y="17812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81760" y="2200320"/>
            <a:ext cx="614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81760" y="2200320"/>
            <a:ext cx="61416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7960" y="2220840"/>
            <a:ext cx="28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47960" y="219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6440" y="2324160"/>
            <a:ext cx="60336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99200" y="2200320"/>
            <a:ext cx="614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99200" y="2200320"/>
            <a:ext cx="614520" cy="3668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47960" y="2220840"/>
            <a:ext cx="169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08520" y="21938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05680" y="2324160"/>
            <a:ext cx="601560" cy="144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84880" y="1946160"/>
            <a:ext cx="558720" cy="247680"/>
          </a:xfrm>
          <a:custGeom>
            <a:avLst/>
            <a:gdLst/>
            <a:ahLst/>
            <a:rect l="l" t="t" r="r" b="b"/>
            <a:pathLst>
              <a:path w="352" h="156">
                <a:moveTo>
                  <a:pt x="0" y="156"/>
                </a:moveTo>
                <a:lnTo>
                  <a:pt x="0" y="78"/>
                </a:lnTo>
                <a:lnTo>
                  <a:pt x="352" y="78"/>
                </a:lnTo>
                <a:lnTo>
                  <a:pt x="352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0" y="1946160"/>
            <a:ext cx="559080" cy="247680"/>
          </a:xfrm>
          <a:custGeom>
            <a:avLst/>
            <a:gdLst/>
            <a:ahLst/>
            <a:rect l="l" t="t" r="r" b="b"/>
            <a:pathLst>
              <a:path w="352" h="156">
                <a:moveTo>
                  <a:pt x="352" y="156"/>
                </a:moveTo>
                <a:lnTo>
                  <a:pt x="352" y="78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23" y="0"/>
                </a:moveTo>
                <a:lnTo>
                  <a:pt x="0" y="47"/>
                </a:lnTo>
                <a:lnTo>
                  <a:pt x="47" y="47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07240" y="1946160"/>
            <a:ext cx="74520" cy="7488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47"/>
                </a:moveTo>
                <a:lnTo>
                  <a:pt x="23" y="0"/>
                </a:lnTo>
                <a:lnTo>
                  <a:pt x="0" y="47"/>
                </a:lnTo>
                <a:lnTo>
                  <a:pt x="47" y="47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75080" y="24400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98680" y="24400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84440" y="249552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01800" y="26384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13720" y="2381400"/>
            <a:ext cx="496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13720" y="2349360"/>
            <a:ext cx="123840" cy="61920"/>
          </a:xfrm>
          <a:custGeom>
            <a:avLst/>
            <a:gdLst/>
            <a:ahLst/>
            <a:rect l="l" t="t" r="r" b="b"/>
            <a:pathLst>
              <a:path w="78" h="39">
                <a:moveTo>
                  <a:pt x="39" y="0"/>
                </a:moveTo>
                <a:lnTo>
                  <a:pt x="0" y="20"/>
                </a:lnTo>
                <a:lnTo>
                  <a:pt x="39" y="39"/>
                </a:lnTo>
                <a:lnTo>
                  <a:pt x="78" y="2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13720" y="2349360"/>
            <a:ext cx="123840" cy="61920"/>
          </a:xfrm>
          <a:custGeom>
            <a:avLst/>
            <a:gdLst/>
            <a:ahLst/>
            <a:rect l="l" t="t" r="r" b="b"/>
            <a:pathLst>
              <a:path w="78" h="39">
                <a:moveTo>
                  <a:pt x="0" y="20"/>
                </a:moveTo>
                <a:lnTo>
                  <a:pt x="39" y="0"/>
                </a:lnTo>
                <a:lnTo>
                  <a:pt x="78" y="20"/>
                </a:lnTo>
                <a:lnTo>
                  <a:pt x="39" y="39"/>
                </a:lnTo>
                <a:lnTo>
                  <a:pt x="0" y="20"/>
                </a:ln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62920" y="2244600"/>
            <a:ext cx="9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tt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45000" y="22161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19000" y="2244600"/>
            <a:ext cx="3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59320" y="22161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18360" y="2432160"/>
            <a:ext cx="2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45000" y="24033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06680" y="2506680"/>
            <a:ext cx="21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30800" y="24782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49160" y="2506680"/>
            <a:ext cx="218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60840" y="24782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74880" y="2506680"/>
            <a:ext cx="21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97200" y="24782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97240" y="2432160"/>
            <a:ext cx="17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63920" y="240336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3325-C35C-4FF8-B2A5-9E250FB45C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7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679B-23A1-440F-8EA0-40D739E9EE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Relationa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03360" y="1182600"/>
            <a:ext cx="7905960" cy="3969360"/>
            <a:chOff x="603360" y="1182600"/>
            <a:chExt cx="7905960" cy="3969360"/>
          </a:xfrm>
        </p:grpSpPr>
        <p:sp>
          <p:nvSpPr>
            <p:cNvPr id="383" name=""/>
            <p:cNvSpPr/>
            <p:nvPr/>
          </p:nvSpPr>
          <p:spPr>
            <a:xfrm>
              <a:off x="8444520" y="48466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3360" y="1182600"/>
              <a:ext cx="7785000" cy="38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00440" y="1362240"/>
              <a:ext cx="1606680" cy="9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00440" y="1362240"/>
              <a:ext cx="1606680" cy="9554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37200" y="1413000"/>
              <a:ext cx="59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Na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25080" y="13431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18080" y="168588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8440" y="176688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2364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08520" y="176688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5672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41600" y="1766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0604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91640" y="176688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60000" y="16956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" y="3306600"/>
              <a:ext cx="1604880" cy="9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2640" y="3306600"/>
              <a:ext cx="1604880" cy="9576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80240" y="336240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42120" y="3292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8480" y="363204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14440" y="2317680"/>
              <a:ext cx="3081240" cy="973080"/>
            </a:xfrm>
            <a:custGeom>
              <a:avLst/>
              <a:gdLst/>
              <a:ahLst/>
              <a:rect l="l" t="t" r="r" b="b"/>
              <a:pathLst>
                <a:path w="1941" h="613">
                  <a:moveTo>
                    <a:pt x="0" y="613"/>
                  </a:moveTo>
                  <a:lnTo>
                    <a:pt x="0" y="307"/>
                  </a:lnTo>
                  <a:lnTo>
                    <a:pt x="1941" y="307"/>
                  </a:lnTo>
                  <a:lnTo>
                    <a:pt x="1941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0" y="123"/>
                  </a:lnTo>
                  <a:lnTo>
                    <a:pt x="122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122" y="123"/>
                  </a:moveTo>
                  <a:lnTo>
                    <a:pt x="61" y="0"/>
                  </a:lnTo>
                  <a:lnTo>
                    <a:pt x="0" y="123"/>
                  </a:lnTo>
                  <a:lnTo>
                    <a:pt x="122" y="123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0440" y="3306600"/>
              <a:ext cx="1606680" cy="9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00440" y="3306600"/>
              <a:ext cx="1606680" cy="9576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2640" y="335448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lum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58560" y="32846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18080" y="363204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87520" y="3778200"/>
              <a:ext cx="1297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7520" y="3697200"/>
              <a:ext cx="324000" cy="16200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102" y="0"/>
                  </a:moveTo>
                  <a:lnTo>
                    <a:pt x="0" y="51"/>
                  </a:lnTo>
                  <a:lnTo>
                    <a:pt x="102" y="102"/>
                  </a:lnTo>
                  <a:lnTo>
                    <a:pt x="204" y="5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7520" y="3697200"/>
              <a:ext cx="324000" cy="16200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0" y="51"/>
                  </a:moveTo>
                  <a:lnTo>
                    <a:pt x="102" y="0"/>
                  </a:lnTo>
                  <a:lnTo>
                    <a:pt x="204" y="51"/>
                  </a:lnTo>
                  <a:lnTo>
                    <a:pt x="102" y="102"/>
                  </a:lnTo>
                  <a:lnTo>
                    <a:pt x="0" y="51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25840" y="38768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08960" y="38052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94080" y="3876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10720" y="38052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4560" y="34225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1072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3520" y="34225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5980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34040" y="39085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17200" y="38368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84320" y="410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56680" y="4030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52360" y="410220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de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58240" y="4030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1022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3640" y="4030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87520" y="3778200"/>
              <a:ext cx="12970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520" y="3697200"/>
              <a:ext cx="16200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0"/>
                  </a:moveTo>
                  <a:lnTo>
                    <a:pt x="0" y="51"/>
                  </a:lnTo>
                  <a:lnTo>
                    <a:pt x="102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87520" y="3778200"/>
              <a:ext cx="16200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102" y="51"/>
                  </a:moveTo>
                  <a:lnTo>
                    <a:pt x="0" y="0"/>
                  </a:lnTo>
                  <a:lnTo>
                    <a:pt x="102" y="51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0080" y="4264200"/>
              <a:ext cx="2595600" cy="649080"/>
            </a:xfrm>
            <a:custGeom>
              <a:avLst/>
              <a:gdLst/>
              <a:ahLst/>
              <a:rect l="l" t="t" r="r" b="b"/>
              <a:pathLst>
                <a:path w="1635" h="409">
                  <a:moveTo>
                    <a:pt x="0" y="0"/>
                  </a:moveTo>
                  <a:lnTo>
                    <a:pt x="0" y="409"/>
                  </a:lnTo>
                  <a:lnTo>
                    <a:pt x="1635" y="409"/>
                  </a:lnTo>
                  <a:lnTo>
                    <a:pt x="1635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42800" y="447660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1224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12840" y="4476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2948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39400" y="447660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3280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5680" y="4264200"/>
              <a:ext cx="8100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51" y="102"/>
                  </a:moveTo>
                  <a:lnTo>
                    <a:pt x="0" y="0"/>
                  </a:lnTo>
                  <a:lnTo>
                    <a:pt x="51" y="102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14680" y="4264200"/>
              <a:ext cx="81000" cy="161640"/>
            </a:xfrm>
            <a:custGeom>
              <a:avLst/>
              <a:gdLst/>
              <a:ahLst/>
              <a:rect l="l" t="t" r="r" b="b"/>
              <a:pathLst>
                <a:path w="51" h="102">
                  <a:moveTo>
                    <a:pt x="0" y="102"/>
                  </a:moveTo>
                  <a:lnTo>
                    <a:pt x="51" y="0"/>
                  </a:lnTo>
                  <a:lnTo>
                    <a:pt x="0" y="102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2080" y="4476600"/>
              <a:ext cx="27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720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86280" y="4476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0292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35720" y="4476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18880" y="440532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0040" y="3306600"/>
              <a:ext cx="1606320" cy="9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0040" y="3306600"/>
              <a:ext cx="1606320" cy="9576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48240" y="336240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63680" y="3292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37320" y="3632040"/>
              <a:ext cx="1573200" cy="18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317680"/>
              <a:ext cx="15840" cy="9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0" y="123"/>
                  </a:lnTo>
                  <a:lnTo>
                    <a:pt x="122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122" y="123"/>
                  </a:moveTo>
                  <a:lnTo>
                    <a:pt x="61" y="0"/>
                  </a:lnTo>
                  <a:lnTo>
                    <a:pt x="0" y="123"/>
                  </a:lnTo>
                  <a:lnTo>
                    <a:pt x="122" y="123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07120" y="3778200"/>
              <a:ext cx="12967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43640" y="34225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2680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42200" y="377820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1"/>
                  </a:moveTo>
                  <a:lnTo>
                    <a:pt x="102" y="0"/>
                  </a:lnTo>
                  <a:lnTo>
                    <a:pt x="0" y="51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42200" y="369720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0"/>
                  </a:moveTo>
                  <a:lnTo>
                    <a:pt x="102" y="51"/>
                  </a:lnTo>
                  <a:lnTo>
                    <a:pt x="0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93720" y="342252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3644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640" y="34225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64920" y="33512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95680" y="2317680"/>
              <a:ext cx="2919600" cy="973080"/>
            </a:xfrm>
            <a:custGeom>
              <a:avLst/>
              <a:gdLst/>
              <a:ahLst/>
              <a:rect l="l" t="t" r="r" b="b"/>
              <a:pathLst>
                <a:path w="1839" h="613">
                  <a:moveTo>
                    <a:pt x="1839" y="613"/>
                  </a:moveTo>
                  <a:lnTo>
                    <a:pt x="1839" y="307"/>
                  </a:lnTo>
                  <a:lnTo>
                    <a:pt x="0" y="307"/>
                  </a:lnTo>
                  <a:lnTo>
                    <a:pt x="0" y="0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0" y="123"/>
                  </a:lnTo>
                  <a:lnTo>
                    <a:pt x="122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98840" y="2317680"/>
              <a:ext cx="193680" cy="19548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122" y="123"/>
                  </a:moveTo>
                  <a:lnTo>
                    <a:pt x="61" y="0"/>
                  </a:lnTo>
                  <a:lnTo>
                    <a:pt x="0" y="123"/>
                  </a:lnTo>
                  <a:lnTo>
                    <a:pt x="122" y="123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1716-F7AA-4C4B-BFD5-1CCCEB172C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1052640"/>
            <a:ext cx="8178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packag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Relational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bstract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attribu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2a00ff"/>
                </a:solidFill>
                <a:latin typeface="Comic Sans MS"/>
              </a:rPr>
              <a:t>String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abl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rdered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ontainer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umn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umn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Of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umn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owner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abl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ol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Of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[</a:t>
            </a:r>
            <a:r>
              <a:rPr b="0" lang="fr-FR" sz="16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fr-FR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abl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oppositeO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key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referenc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clas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Type </a:t>
            </a:r>
            <a:r>
              <a:rPr b="1" lang="fr-FR" sz="1600" spc="-1" strike="noStrike">
                <a:solidFill>
                  <a:srgbClr val="7f0055"/>
                </a:solidFill>
                <a:latin typeface="Comic Sans MS"/>
              </a:rPr>
              <a:t>extend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Named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Relational Metamodel in KM3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795920" y="587520"/>
            <a:ext cx="4250880" cy="2134440"/>
            <a:chOff x="4795920" y="587520"/>
            <a:chExt cx="4250880" cy="2134440"/>
          </a:xfrm>
        </p:grpSpPr>
        <p:sp>
          <p:nvSpPr>
            <p:cNvPr id="471" name=""/>
            <p:cNvSpPr/>
            <p:nvPr/>
          </p:nvSpPr>
          <p:spPr>
            <a:xfrm>
              <a:off x="9011160" y="2554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95920" y="587520"/>
              <a:ext cx="4187880" cy="20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61280" y="682560"/>
              <a:ext cx="8632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61280" y="682560"/>
              <a:ext cx="86328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70880" y="71136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Nam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3200" y="671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70640" y="857160"/>
              <a:ext cx="84600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22840" y="90180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7900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91600" y="901800"/>
              <a:ext cx="22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1228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08680" y="901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3928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51880" y="90180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3720" y="8604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90960" y="1728720"/>
              <a:ext cx="86364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90960" y="1728720"/>
              <a:ext cx="86364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33320" y="1757520"/>
              <a:ext cx="22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9760" y="1719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00680" y="1903320"/>
              <a:ext cx="84600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30800" y="1197000"/>
              <a:ext cx="1658880" cy="523800"/>
            </a:xfrm>
            <a:custGeom>
              <a:avLst/>
              <a:gdLst/>
              <a:ahLst/>
              <a:rect l="l" t="t" r="r" b="b"/>
              <a:pathLst>
                <a:path w="1045" h="330">
                  <a:moveTo>
                    <a:pt x="0" y="330"/>
                  </a:moveTo>
                  <a:lnTo>
                    <a:pt x="0" y="165"/>
                  </a:lnTo>
                  <a:lnTo>
                    <a:pt x="1045" y="165"/>
                  </a:lnTo>
                  <a:lnTo>
                    <a:pt x="1045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0" y="66"/>
                  </a:lnTo>
                  <a:lnTo>
                    <a:pt x="66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33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61280" y="1728720"/>
              <a:ext cx="8632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61280" y="1728720"/>
              <a:ext cx="86328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56480" y="17524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lum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82280" y="1714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70640" y="1903320"/>
              <a:ext cx="84600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54600" y="1981080"/>
              <a:ext cx="698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4600" y="1938240"/>
              <a:ext cx="174600" cy="874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110" y="2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54600" y="1938240"/>
              <a:ext cx="174600" cy="874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0" y="27"/>
                  </a:moveTo>
                  <a:lnTo>
                    <a:pt x="55" y="0"/>
                  </a:lnTo>
                  <a:lnTo>
                    <a:pt x="110" y="27"/>
                  </a:lnTo>
                  <a:lnTo>
                    <a:pt x="55" y="55"/>
                  </a:lnTo>
                  <a:lnTo>
                    <a:pt x="0" y="27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02920" y="20368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40880" y="1995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16520" y="203688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2680" y="1995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0960" y="1792440"/>
              <a:ext cx="11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5688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5720" y="179244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188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0160" y="20527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59760" y="20113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24960" y="21574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58440" y="2116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82920" y="215748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der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82080" y="2116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99360" y="21574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34640" y="2116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54600" y="1981080"/>
              <a:ext cx="698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54600" y="1938240"/>
              <a:ext cx="8748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55" y="0"/>
                  </a:moveTo>
                  <a:lnTo>
                    <a:pt x="0" y="27"/>
                  </a:lnTo>
                  <a:lnTo>
                    <a:pt x="55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54600" y="1981080"/>
              <a:ext cx="8748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5" y="28"/>
                  </a:moveTo>
                  <a:lnTo>
                    <a:pt x="0" y="0"/>
                  </a:lnTo>
                  <a:lnTo>
                    <a:pt x="55" y="28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92880" y="2243160"/>
              <a:ext cx="1396800" cy="349200"/>
            </a:xfrm>
            <a:custGeom>
              <a:avLst/>
              <a:gdLst/>
              <a:ahLst/>
              <a:rect l="l" t="t" r="r" b="b"/>
              <a:pathLst>
                <a:path w="880" h="220">
                  <a:moveTo>
                    <a:pt x="0" y="0"/>
                  </a:moveTo>
                  <a:lnTo>
                    <a:pt x="0" y="220"/>
                  </a:lnTo>
                  <a:lnTo>
                    <a:pt x="880" y="220"/>
                  </a:lnTo>
                  <a:lnTo>
                    <a:pt x="88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2080" y="2359080"/>
              <a:ext cx="23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y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4248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27480" y="235908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364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81080" y="23590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328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89680" y="2243160"/>
              <a:ext cx="42840" cy="8712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7" y="55"/>
                  </a:moveTo>
                  <a:lnTo>
                    <a:pt x="0" y="0"/>
                  </a:lnTo>
                  <a:lnTo>
                    <a:pt x="27" y="5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45400" y="2243160"/>
              <a:ext cx="44280" cy="871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0" y="55"/>
                  </a:moveTo>
                  <a:lnTo>
                    <a:pt x="28" y="0"/>
                  </a:lnTo>
                  <a:lnTo>
                    <a:pt x="0" y="55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05000" y="2359080"/>
              <a:ext cx="13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4396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19680" y="235908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7584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66360" y="23590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5960" y="2317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031240" y="1728720"/>
              <a:ext cx="865080" cy="51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31240" y="1728720"/>
              <a:ext cx="865080" cy="51444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86560" y="1757520"/>
              <a:ext cx="20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590320" y="1719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40600" y="1903320"/>
              <a:ext cx="846360" cy="18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89680" y="1197000"/>
              <a:ext cx="7920" cy="52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0" y="66"/>
                  </a:lnTo>
                  <a:lnTo>
                    <a:pt x="66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33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4560" y="1981080"/>
              <a:ext cx="698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55240" y="179244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9484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35840" y="1981080"/>
              <a:ext cx="87480" cy="4464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28"/>
                  </a:moveTo>
                  <a:lnTo>
                    <a:pt x="55" y="0"/>
                  </a:lnTo>
                  <a:lnTo>
                    <a:pt x="0" y="28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35840" y="1938240"/>
              <a:ext cx="87480" cy="4284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0"/>
                  </a:moveTo>
                  <a:lnTo>
                    <a:pt x="55" y="27"/>
                  </a:lnTo>
                  <a:lnTo>
                    <a:pt x="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63040" y="1792440"/>
              <a:ext cx="16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3008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73760" y="1792440"/>
              <a:ext cx="5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1360" y="1751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89680" y="1197000"/>
              <a:ext cx="1569960" cy="523800"/>
            </a:xfrm>
            <a:custGeom>
              <a:avLst/>
              <a:gdLst/>
              <a:ahLst/>
              <a:rect l="l" t="t" r="r" b="b"/>
              <a:pathLst>
                <a:path w="989" h="330">
                  <a:moveTo>
                    <a:pt x="989" y="330"/>
                  </a:moveTo>
                  <a:lnTo>
                    <a:pt x="989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0" y="66"/>
                  </a:lnTo>
                  <a:lnTo>
                    <a:pt x="66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37480" y="119700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66"/>
                  </a:moveTo>
                  <a:lnTo>
                    <a:pt x="33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041C-09E4-4BCB-BEFE-1BE4D6C07C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formal description of rul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lass2Tabl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bl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is created from each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las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olumn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table correspond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ingle-valued attribute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class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column corresponding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table is creat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SingleValuedAttribute2Colum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column is created from each single-valued attribut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Comic Sans MS"/>
              </a:rPr>
              <a:t>MultiValuedAttribute2Colum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bl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with two columns is created from each multi-valued attribut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ne column refers to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key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table created from the owner class of the attribut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e second column contains the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alu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f the attribut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ABD2-4D22-4E86-BC61-D82F8D9923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2500" spc="-1" strike="noStrike">
                <a:solidFill>
                  <a:srgbClr val="006600"/>
                </a:solidFill>
                <a:latin typeface="Comic Sans MS"/>
              </a:rPr>
              <a:t>Tabl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created for each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Class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from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ff0000"/>
                </a:solidFill>
                <a:latin typeface="Comic Sans MS"/>
              </a:rPr>
              <a:t>-- source patter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c : Class!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to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006600"/>
                </a:solidFill>
                <a:latin typeface="Comic Sans MS"/>
              </a:rPr>
              <a:t>-- target patter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t : Relational!Tabl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E27F-090F-4D93-A745-CEBC670A77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nam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f the Table is the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name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of the Clas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 : Class!Clas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t : Relational!Table 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(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name &lt;- c.name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ff0000"/>
                </a:solidFill>
                <a:latin typeface="Comic Sans MS"/>
              </a:rPr>
              <a:t>-- a simple bind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F096-B6C0-43A8-92BF-CFF3AF7F0FA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column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of the table correspond to </a:t>
            </a: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the single-valued attributes of the class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 : Class!Clas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 : Relational!Table (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name &lt;- c.name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col &lt;- c.attr-&gt;select(e |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a binding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not e.multiValued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using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complex navigation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Remark: attributes are automatically resolved into columns by automatic traceability suppor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1751-4E80-491E-A3E0-353E3CB980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xample: Class to Relational, rule Class2Tab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863640"/>
            <a:ext cx="84582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Each Table owns a </a:t>
            </a:r>
            <a:r>
              <a:rPr b="0" lang="en-US" sz="2100" spc="-1" strike="noStrike">
                <a:solidFill>
                  <a:srgbClr val="ff0000"/>
                </a:solidFill>
                <a:latin typeface="Comic Sans MS"/>
              </a:rPr>
              <a:t>key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containing a unique identifier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 Class2Table {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 : Class!Clas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1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t : Relational!Table (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name &lt;- c.name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col &lt;- c.attr-&gt;select(e |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not e.multiValued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)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-&gt;union(Sequence {key})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key &lt;- Set {key}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),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key : Relational!Column (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another targe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name &lt;- ‘Id’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pattern element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en-GB" sz="2100" spc="-1" strike="noStrike">
                <a:solidFill>
                  <a:srgbClr val="ff0000"/>
                </a:solidFill>
                <a:latin typeface="Comic Sans MS"/>
              </a:rPr>
              <a:t>-- for the key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1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4D33-D706-49B5-BBA1-D0B7377171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xample: Class to Relational, rule </a:t>
            </a: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SingleValuedAttribute2Column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Column is created for each </a:t>
            </a:r>
            <a:r>
              <a:rPr b="0" lang="en-US" sz="2500" spc="-1" strike="noStrike">
                <a:solidFill>
                  <a:srgbClr val="006600"/>
                </a:solidFill>
                <a:latin typeface="Comic Sans MS"/>
              </a:rPr>
              <a:t>single-valued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Attribut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 SingleValuedAttribute2Column {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from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i="1" lang="en-GB" sz="2500" spc="-1" strike="noStrike">
                <a:solidFill>
                  <a:srgbClr val="006600"/>
                </a:solidFill>
                <a:latin typeface="Comic Sans MS"/>
              </a:rPr>
              <a:t>-- the guard is used for sele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a : Class!Attribute </a:t>
            </a:r>
            <a:r>
              <a:rPr b="0" lang="en-GB" sz="2500" spc="-1" strike="noStrike">
                <a:solidFill>
                  <a:srgbClr val="006600"/>
                </a:solidFill>
                <a:latin typeface="Comic Sans MS"/>
              </a:rPr>
              <a:t>(not a.multiValued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25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c : Relational!Column (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name &lt;- a.nam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2DDF-5520-4968-AE55-8BBECAF889E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xample: Class to Relational, rule </a:t>
            </a: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MultiValuedAttribute2Column</a:t>
            </a:r>
            <a:endParaRPr b="1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17520" y="723960"/>
            <a:ext cx="8750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Table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 is created for each </a:t>
            </a:r>
            <a:r>
              <a:rPr b="0" lang="en-US" sz="1900" spc="-1" strike="noStrike">
                <a:solidFill>
                  <a:srgbClr val="006600"/>
                </a:solidFill>
                <a:latin typeface="Comic Sans MS"/>
              </a:rPr>
              <a:t>multi-valued</a:t>
            </a: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 Attribute, which contains two columns: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dentifier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of the table created from the class owner of the Attribut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4d4d4d"/>
                </a:solidFill>
                <a:latin typeface="Comic Sans MS"/>
              </a:rPr>
              <a:t>value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 MultiValuedAttribute2Column {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from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a : Class!Attribute </a:t>
            </a:r>
            <a:r>
              <a:rPr b="0" lang="en-GB" sz="1900" spc="-1" strike="noStrike">
                <a:solidFill>
                  <a:srgbClr val="006600"/>
                </a:solidFill>
                <a:latin typeface="Comic Sans MS"/>
              </a:rPr>
              <a:t>(a.multiValued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GB" sz="1900" spc="-1" strike="noStrike">
                <a:solidFill>
                  <a:srgbClr val="000066"/>
                </a:solidFill>
                <a:latin typeface="Comic Sans MS"/>
              </a:rPr>
              <a:t>to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t : Relational!Table (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name &lt;- a.owner.name + ‘_’ + a.name,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col &lt;- Sequence {id, value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Comic Sans MS"/>
              </a:rPr>
              <a:t>),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id : Relational!Column (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name &lt;- ‘Id’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3333cc"/>
                </a:solidFill>
                <a:latin typeface="Comic Sans MS"/>
              </a:rPr>
              <a:t>),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value : Relational!Column (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name &lt;- a.nam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4d4d4d"/>
                </a:solidFill>
                <a:latin typeface="Comic Sans MS"/>
              </a:rPr>
              <a:t>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GB" sz="1900" spc="-1" strike="noStrike">
                <a:solidFill>
                  <a:srgbClr val="000066"/>
                </a:solidFill>
                <a:latin typeface="Comic Sans MS"/>
              </a:rPr>
              <a:t>}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1756-1C8F-4847-9748-46D88E1BD87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ther ATL featur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TL in use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C78B-7925-44D6-A105-2976587A1C3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8872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erequisit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 be able to understand this lecture, a reader should be familiar with the following concepts, languages, and standards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del Driven Engineering (MD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 role of model transformations in MD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UM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OC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Basic programming concepts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B38C-EA24-4B94-A641-93D854D58CA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ther ATL features: rule inheritanc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ule inheritance, to help structure transformations and reuse rules and patter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child rule matches a subset of what its parent rule matche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ll the bindings of the parent still make sense for the chil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 child rule specializes target elements of its parent rul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itialization of existing elements may be improved or change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ew elements may be create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yntax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abstract ru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R1 {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f7f5f"/>
                </a:solidFill>
                <a:latin typeface="Courier New"/>
              </a:rPr>
              <a:t>-- ..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ru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R2 </a:t>
            </a: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extends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R1 {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f7f5f"/>
                </a:solidFill>
                <a:latin typeface="Courier New"/>
              </a:rPr>
              <a:t>-- ..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DA3B-2077-4F03-9B77-9282E2CAE4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ther ATL features: refining mo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Refining mode for transformations that need to modify only a small part of a model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ince source models are read-only target models must be created from scratch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This can be done by writing copy rules for each elements that are not transformed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This is not very elegant,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 refining mode, the ATL engine automatically copies unmatched elements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developer only specifies what chang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TL semantics is respected: source models are still read-only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n (optimized) engine may modify source models in-place but only commit the changes in the en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Syntax: replace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from</a:t>
            </a: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 by </a:t>
            </a:r>
            <a:r>
              <a:rPr b="1" lang="en-US" sz="1800" spc="-1" strike="noStrike">
                <a:solidFill>
                  <a:srgbClr val="7f0055"/>
                </a:solidFill>
                <a:latin typeface="Courier New"/>
              </a:rPr>
              <a:t>refining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modu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A2A; </a:t>
            </a: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create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UT : MMA </a:t>
            </a:r>
            <a:r>
              <a:rPr b="1" lang="fr-FR" sz="1800" spc="-1" strike="noStrike">
                <a:solidFill>
                  <a:srgbClr val="7f0055"/>
                </a:solidFill>
                <a:latin typeface="Courier New"/>
              </a:rPr>
              <a:t>refining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IN : MMA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B60E-3FE2-4CC9-AA19-EDBA82A8D02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in us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has been used in a large number of application domain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library of transformations is available 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ttp://www.eclipse.org/gmt/atl/atlTransformations/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ore th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scenarios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ore th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00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single transformations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bout 100 sites use ATL for various purpos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eaching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esearch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dustrial development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622E-5D36-4FAF-A7F6-B4A6BCA8E8A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in us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tools and documentation are available 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ttp://www.eclipse.org/gmt/atl/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ecution engine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Virtual machin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TL to bytecode compiler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ntegrated Development Environment (IDE) for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ditor with syntax highlighting and outlin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xecution support with launch configurations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ource-level debugger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ocumentation: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Starter’s guid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ser manual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stallation guide,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Etc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8AD0-9115-43D0-B050-77F02545A56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Development Tools: perspective, editor and outl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23800" y="677880"/>
            <a:ext cx="8088480" cy="54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89FE-4915-4E08-AC7B-096D5A88FEB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Development Tools: launch configur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88800" y="766800"/>
            <a:ext cx="8217000" cy="50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B768-4D4B-4E2E-962E-E8279CF1C5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Development Tools: source-level debugger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22440" y="725400"/>
            <a:ext cx="7748280" cy="54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F0DD-45A6-4ABF-9BD4-29E848FE84B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ECF8-CC54-448A-A6FA-E9727B0FD75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has a simple declarative syntax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imple problems are generally solved simpl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supports advanced feature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mplex OCL navigation, lazy rules, refining mode, rule inheritance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any complex problems can be handled declaratively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has an imperative par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ny problem can be handled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DF5A-F4F3-4ACA-AE98-68E9B5B0A66A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F8A5-E090-4153-BE61-6EC949DDFC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fini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perational contex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0536-07B6-429C-AAB7-DE472701F3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efinit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model transformation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 is the automatic creation of target models from source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del transformation is not only about M1 to M1 transformatio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1 to M2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omic Sans MS"/>
              </a:rPr>
              <a:t>promotion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2 to M1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omic Sans MS"/>
              </a:rPr>
              <a:t>demotion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3 to M1, M3 to M2, etc.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862680" y="3747960"/>
            <a:ext cx="1544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etameta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6080" y="4686480"/>
            <a:ext cx="1141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eta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57880" y="5603760"/>
            <a:ext cx="960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Terminal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67" idx="2"/>
          </p:cNvCxnSpPr>
          <p:nvPr/>
        </p:nvCxnSpPr>
        <p:spPr>
          <a:xfrm flipH="1" flipV="1">
            <a:off x="7636680" y="5000040"/>
            <a:ext cx="252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0"/>
            <a:endCxn id="66" idx="2"/>
          </p:cNvCxnSpPr>
          <p:nvPr/>
        </p:nvCxnSpPr>
        <p:spPr>
          <a:xfrm flipH="1" flipV="1">
            <a:off x="7635600" y="4061880"/>
            <a:ext cx="2160" cy="6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805000" y="37558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14720" y="468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2000" y="561024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6" idx="0"/>
            <a:endCxn id="66" idx="1"/>
          </p:cNvCxnSpPr>
          <p:nvPr/>
        </p:nvCxnSpPr>
        <p:spPr>
          <a:xfrm rot="5400000">
            <a:off x="7170120" y="3439080"/>
            <a:ext cx="158040" cy="774000"/>
          </a:xfrm>
          <a:prstGeom prst="curvedConnector5">
            <a:avLst>
              <a:gd name="adj1" fmla="val -145433"/>
              <a:gd name="adj2" fmla="val 64774"/>
              <a:gd name="adj3" fmla="val -1454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3B86-DFEC-4CDD-9FF0-1B435E8899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798440" y="4260960"/>
            <a:ext cx="630360" cy="630720"/>
            <a:chOff x="4798440" y="4260960"/>
            <a:chExt cx="630360" cy="630720"/>
          </a:xfrm>
        </p:grpSpPr>
        <p:sp>
          <p:nvSpPr>
            <p:cNvPr id="76" name=""/>
            <p:cNvSpPr/>
            <p:nvPr/>
          </p:nvSpPr>
          <p:spPr>
            <a:xfrm>
              <a:off x="4810320" y="4584600"/>
              <a:ext cx="6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Comic Sans MS"/>
                </a:rPr>
                <a:t>G</a:t>
              </a: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 2 </a:t>
              </a:r>
              <a:r>
                <a:rPr b="1" lang="en-US" sz="1400" spc="-1" strike="noStrike">
                  <a:solidFill>
                    <a:srgbClr val="ff33cc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98440" y="426096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733200" y="4248000"/>
            <a:ext cx="630360" cy="631080"/>
            <a:chOff x="3733200" y="4248000"/>
            <a:chExt cx="630360" cy="631080"/>
          </a:xfrm>
        </p:grpSpPr>
        <p:sp>
          <p:nvSpPr>
            <p:cNvPr id="79" name=""/>
            <p:cNvSpPr/>
            <p:nvPr/>
          </p:nvSpPr>
          <p:spPr>
            <a:xfrm>
              <a:off x="3746160" y="457200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r>
                <a:rPr b="1" lang="en-US" sz="1400" spc="-1" strike="noStrike">
                  <a:solidFill>
                    <a:srgbClr val="000066"/>
                  </a:solidFill>
                  <a:latin typeface="Comic Sans MS"/>
                </a:rPr>
                <a:t> 2 </a:t>
              </a:r>
              <a:r>
                <a:rPr b="1" lang="en-US" sz="14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200" y="42480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perational context: small theor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7320" y="5081760"/>
            <a:ext cx="2598480" cy="1096920"/>
            <a:chOff x="157320" y="5081760"/>
            <a:chExt cx="2598480" cy="1096920"/>
          </a:xfrm>
        </p:grpSpPr>
        <p:sp>
          <p:nvSpPr>
            <p:cNvPr id="83" name=""/>
            <p:cNvSpPr/>
            <p:nvPr/>
          </p:nvSpPr>
          <p:spPr>
            <a:xfrm>
              <a:off x="158760" y="5085000"/>
              <a:ext cx="25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7320" y="5081760"/>
              <a:ext cx="2598480" cy="109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300720" y="5083200"/>
            <a:ext cx="2598840" cy="1096920"/>
            <a:chOff x="6300720" y="5083200"/>
            <a:chExt cx="2598840" cy="1096920"/>
          </a:xfrm>
        </p:grpSpPr>
        <p:sp>
          <p:nvSpPr>
            <p:cNvPr id="86" name=""/>
            <p:cNvSpPr/>
            <p:nvPr/>
          </p:nvSpPr>
          <p:spPr>
            <a:xfrm>
              <a:off x="6302160" y="5086440"/>
              <a:ext cx="25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00720" y="5083200"/>
              <a:ext cx="2598840" cy="109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76040" y="2475000"/>
            <a:ext cx="2598840" cy="2606400"/>
            <a:chOff x="176040" y="2475000"/>
            <a:chExt cx="2598840" cy="2606400"/>
          </a:xfrm>
        </p:grpSpPr>
        <p:grpSp>
          <p:nvGrpSpPr>
            <p:cNvPr id="89" name=""/>
            <p:cNvGrpSpPr/>
            <p:nvPr/>
          </p:nvGrpSpPr>
          <p:grpSpPr>
            <a:xfrm>
              <a:off x="176040" y="2475000"/>
              <a:ext cx="2598840" cy="1789200"/>
              <a:chOff x="176040" y="2475000"/>
              <a:chExt cx="2598840" cy="1789200"/>
            </a:xfrm>
          </p:grpSpPr>
          <p:sp>
            <p:nvSpPr>
              <p:cNvPr id="90" name=""/>
              <p:cNvSpPr/>
              <p:nvPr/>
            </p:nvSpPr>
            <p:spPr>
              <a:xfrm>
                <a:off x="177480" y="2480760"/>
                <a:ext cx="259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Comic Sans MS"/>
                  </a:rPr>
                  <a:t>M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6040" y="2475000"/>
                <a:ext cx="2598840" cy="178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2" name=""/>
            <p:cNvCxnSpPr>
              <a:stCxn id="84" idx="0"/>
              <a:endCxn id="91" idx="2"/>
            </p:cNvCxnSpPr>
            <p:nvPr/>
          </p:nvCxnSpPr>
          <p:spPr>
            <a:xfrm flipV="1">
              <a:off x="1456920" y="4263480"/>
              <a:ext cx="19800" cy="818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93" name=""/>
            <p:cNvGrpSpPr/>
            <p:nvPr/>
          </p:nvGrpSpPr>
          <p:grpSpPr>
            <a:xfrm>
              <a:off x="1451880" y="2592360"/>
              <a:ext cx="792000" cy="718920"/>
              <a:chOff x="1451880" y="2592360"/>
              <a:chExt cx="792000" cy="718920"/>
            </a:xfrm>
          </p:grpSpPr>
          <p:sp>
            <p:nvSpPr>
              <p:cNvPr id="94" name=""/>
              <p:cNvSpPr/>
              <p:nvPr/>
            </p:nvSpPr>
            <p:spPr>
              <a:xfrm>
                <a:off x="1451880" y="2919240"/>
                <a:ext cx="79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600"/>
                    </a:solidFill>
                    <a:latin typeface="Comic Sans MS"/>
                  </a:rPr>
                  <a:t>Gr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96" idx="2"/>
                <a:endCxn id="96" idx="6"/>
              </p:cNvCxnSpPr>
              <p:nvPr/>
            </p:nvCxnSpPr>
            <p:spPr>
              <a:xfrm>
                <a:off x="1504800" y="295236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7" name=""/>
              <p:cNvSpPr/>
              <p:nvPr/>
            </p:nvSpPr>
            <p:spPr>
              <a:xfrm>
                <a:off x="1568520" y="264636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04800" y="259236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500120" y="3500280"/>
              <a:ext cx="719640" cy="718920"/>
              <a:chOff x="1500120" y="3500280"/>
              <a:chExt cx="719640" cy="718920"/>
            </a:xfrm>
          </p:grpSpPr>
          <p:sp>
            <p:nvSpPr>
              <p:cNvPr id="99" name=""/>
              <p:cNvSpPr/>
              <p:nvPr/>
            </p:nvSpPr>
            <p:spPr>
              <a:xfrm>
                <a:off x="1562400" y="382716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mic Sans MS"/>
                  </a:rPr>
                  <a:t>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0" name=""/>
              <p:cNvCxnSpPr>
                <a:stCxn id="101" idx="2"/>
                <a:endCxn id="101" idx="6"/>
              </p:cNvCxnSpPr>
              <p:nvPr/>
            </p:nvCxnSpPr>
            <p:spPr>
              <a:xfrm>
                <a:off x="1500120" y="386028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1563840" y="355428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0120" y="350028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300720" y="2468520"/>
            <a:ext cx="2598840" cy="2614320"/>
            <a:chOff x="6300720" y="2468520"/>
            <a:chExt cx="2598840" cy="2614320"/>
          </a:xfrm>
        </p:grpSpPr>
        <p:grpSp>
          <p:nvGrpSpPr>
            <p:cNvPr id="104" name=""/>
            <p:cNvGrpSpPr/>
            <p:nvPr/>
          </p:nvGrpSpPr>
          <p:grpSpPr>
            <a:xfrm>
              <a:off x="6300720" y="2468520"/>
              <a:ext cx="2598840" cy="1803600"/>
              <a:chOff x="6300720" y="2468520"/>
              <a:chExt cx="2598840" cy="1803600"/>
            </a:xfrm>
          </p:grpSpPr>
          <p:sp>
            <p:nvSpPr>
              <p:cNvPr id="105" name=""/>
              <p:cNvSpPr/>
              <p:nvPr/>
            </p:nvSpPr>
            <p:spPr>
              <a:xfrm>
                <a:off x="6302160" y="2474280"/>
                <a:ext cx="259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Comic Sans MS"/>
                  </a:rPr>
                  <a:t>MM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00720" y="2468520"/>
                <a:ext cx="2598840" cy="180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7" name=""/>
            <p:cNvCxnSpPr>
              <a:stCxn id="87" idx="0"/>
              <a:endCxn id="106" idx="2"/>
            </p:cNvCxnSpPr>
            <p:nvPr/>
          </p:nvCxnSpPr>
          <p:spPr>
            <a:xfrm flipV="1">
              <a:off x="7600680" y="4271400"/>
              <a:ext cx="1080" cy="81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p:grpSp>
          <p:nvGrpSpPr>
            <p:cNvPr id="108" name=""/>
            <p:cNvGrpSpPr/>
            <p:nvPr/>
          </p:nvGrpSpPr>
          <p:grpSpPr>
            <a:xfrm>
              <a:off x="7611840" y="2573280"/>
              <a:ext cx="728280" cy="718920"/>
              <a:chOff x="7611840" y="2573280"/>
              <a:chExt cx="728280" cy="718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639560" y="290016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Comic Sans MS"/>
                  </a:rPr>
                  <a:t>B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11" idx="2"/>
                <a:endCxn id="111" idx="6"/>
              </p:cNvCxnSpPr>
              <p:nvPr/>
            </p:nvCxnSpPr>
            <p:spPr>
              <a:xfrm>
                <a:off x="7611840" y="2933280"/>
                <a:ext cx="719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2" name=""/>
              <p:cNvSpPr/>
              <p:nvPr/>
            </p:nvSpPr>
            <p:spPr>
              <a:xfrm>
                <a:off x="7644240" y="260172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2200" y="2573280"/>
                <a:ext cx="71892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607160" y="3481560"/>
              <a:ext cx="719640" cy="718920"/>
              <a:chOff x="7607160" y="3481560"/>
              <a:chExt cx="719640" cy="718920"/>
            </a:xfrm>
          </p:grpSpPr>
          <p:sp>
            <p:nvSpPr>
              <p:cNvPr id="114" name=""/>
              <p:cNvSpPr/>
              <p:nvPr/>
            </p:nvSpPr>
            <p:spPr>
              <a:xfrm>
                <a:off x="7639200" y="3808440"/>
                <a:ext cx="62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cc"/>
                    </a:solidFill>
                    <a:latin typeface="Comic Sans MS"/>
                  </a:rPr>
                  <a:t>Pin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stCxn id="116" idx="2"/>
                <a:endCxn id="116" idx="6"/>
              </p:cNvCxnSpPr>
              <p:nvPr/>
            </p:nvCxnSpPr>
            <p:spPr>
              <a:xfrm>
                <a:off x="7607160" y="384156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17" name=""/>
              <p:cNvSpPr/>
              <p:nvPr/>
            </p:nvSpPr>
            <p:spPr>
              <a:xfrm>
                <a:off x="7670880" y="3535560"/>
                <a:ext cx="63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07160" y="348156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162080" y="52117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12920" y="57531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3000" y="5756400"/>
            <a:ext cx="216000" cy="215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23280" y="5568840"/>
            <a:ext cx="216000" cy="2160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91360" y="528804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4440" y="573876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8" idx="6"/>
            <a:endCxn id="122" idx="1"/>
          </p:cNvCxnSpPr>
          <p:nvPr/>
        </p:nvCxnSpPr>
        <p:spPr>
          <a:xfrm>
            <a:off x="1377720" y="5319720"/>
            <a:ext cx="6746040" cy="2160"/>
          </a:xfrm>
          <a:prstGeom prst="curvedConnector5">
            <a:avLst>
              <a:gd name="adj1" fmla="val 5971"/>
              <a:gd name="adj2" fmla="val -1140000"/>
              <a:gd name="adj3" fmla="val 5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9" idx="5"/>
            <a:endCxn id="123" idx="3"/>
          </p:cNvCxnSpPr>
          <p:nvPr/>
        </p:nvCxnSpPr>
        <p:spPr>
          <a:xfrm flipH="1" flipV="1" rot="5400000">
            <a:off x="4523400" y="2894760"/>
            <a:ext cx="14760" cy="6069960"/>
          </a:xfrm>
          <a:prstGeom prst="curvedConnector5">
            <a:avLst>
              <a:gd name="adj1" fmla="val -1820000"/>
              <a:gd name="adj2" fmla="val 50000"/>
              <a:gd name="adj3" fmla="val -18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6"/>
            <a:endCxn id="121" idx="2"/>
          </p:cNvCxnSpPr>
          <p:nvPr/>
        </p:nvCxnSpPr>
        <p:spPr>
          <a:xfrm flipV="1">
            <a:off x="2258640" y="5676120"/>
            <a:ext cx="6165000" cy="188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" name=""/>
          <p:cNvGrpSpPr/>
          <p:nvPr/>
        </p:nvGrpSpPr>
        <p:grpSpPr>
          <a:xfrm>
            <a:off x="1476000" y="476280"/>
            <a:ext cx="6125040" cy="1998720"/>
            <a:chOff x="1476000" y="476280"/>
            <a:chExt cx="6125040" cy="1998720"/>
          </a:xfrm>
        </p:grpSpPr>
        <p:grpSp>
          <p:nvGrpSpPr>
            <p:cNvPr id="128" name=""/>
            <p:cNvGrpSpPr/>
            <p:nvPr/>
          </p:nvGrpSpPr>
          <p:grpSpPr>
            <a:xfrm>
              <a:off x="1476000" y="476280"/>
              <a:ext cx="6125040" cy="1998720"/>
              <a:chOff x="1476000" y="476280"/>
              <a:chExt cx="6125040" cy="1998720"/>
            </a:xfrm>
          </p:grpSpPr>
          <p:cxnSp>
            <p:nvCxnSpPr>
              <p:cNvPr id="129" name=""/>
              <p:cNvCxnSpPr>
                <a:stCxn id="91" idx="0"/>
                <a:endCxn id="130" idx="2"/>
              </p:cNvCxnSpPr>
              <p:nvPr/>
            </p:nvCxnSpPr>
            <p:spPr>
              <a:xfrm flipV="1">
                <a:off x="1476000" y="2009520"/>
                <a:ext cx="3012120" cy="4658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</p:cxnSp>
          <p:cxnSp>
            <p:nvCxnSpPr>
              <p:cNvPr id="131" name=""/>
              <p:cNvCxnSpPr>
                <a:stCxn id="130" idx="0"/>
                <a:endCxn id="130" idx="1"/>
              </p:cNvCxnSpPr>
              <p:nvPr/>
            </p:nvCxnSpPr>
            <p:spPr>
              <a:xfrm rot="5400000">
                <a:off x="3510720" y="380880"/>
                <a:ext cx="653040" cy="1300680"/>
              </a:xfrm>
              <a:prstGeom prst="curvedConnector5">
                <a:avLst>
                  <a:gd name="adj1" fmla="val -35024"/>
                  <a:gd name="adj2" fmla="val 58776"/>
                  <a:gd name="adj3" fmla="val -35024"/>
                </a:avLst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</p:cxnSp>
          <p:grpSp>
            <p:nvGrpSpPr>
              <p:cNvPr id="132" name=""/>
              <p:cNvGrpSpPr/>
              <p:nvPr/>
            </p:nvGrpSpPr>
            <p:grpSpPr>
              <a:xfrm>
                <a:off x="3187800" y="704880"/>
                <a:ext cx="2598480" cy="1305000"/>
                <a:chOff x="3187800" y="704880"/>
                <a:chExt cx="2598480" cy="13050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189240" y="707760"/>
                  <a:ext cx="2595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66"/>
                      </a:solidFill>
                      <a:latin typeface="Comic Sans MS"/>
                    </a:rPr>
                    <a:t>Metametamod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187800" y="704880"/>
                  <a:ext cx="2598480" cy="1305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4" name=""/>
              <p:cNvCxnSpPr>
                <a:stCxn id="106" idx="0"/>
                <a:endCxn id="130" idx="2"/>
              </p:cNvCxnSpPr>
              <p:nvPr/>
            </p:nvCxnSpPr>
            <p:spPr>
              <a:xfrm flipH="1" flipV="1">
                <a:off x="4487400" y="2009520"/>
                <a:ext cx="3114000" cy="4593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</p:cxnSp>
        </p:grpSp>
        <p:grpSp>
          <p:nvGrpSpPr>
            <p:cNvPr id="135" name=""/>
            <p:cNvGrpSpPr/>
            <p:nvPr/>
          </p:nvGrpSpPr>
          <p:grpSpPr>
            <a:xfrm>
              <a:off x="4084560" y="1149480"/>
              <a:ext cx="730080" cy="718920"/>
              <a:chOff x="4084560" y="1149480"/>
              <a:chExt cx="730080" cy="718920"/>
            </a:xfrm>
          </p:grpSpPr>
          <p:sp>
            <p:nvSpPr>
              <p:cNvPr id="136" name=""/>
              <p:cNvSpPr/>
              <p:nvPr/>
            </p:nvSpPr>
            <p:spPr>
              <a:xfrm>
                <a:off x="4118760" y="147636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7" name=""/>
              <p:cNvCxnSpPr>
                <a:stCxn id="138" idx="2"/>
                <a:endCxn id="138" idx="6"/>
              </p:cNvCxnSpPr>
              <p:nvPr/>
            </p:nvCxnSpPr>
            <p:spPr>
              <a:xfrm>
                <a:off x="4084560" y="1509480"/>
                <a:ext cx="72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9" name=""/>
              <p:cNvSpPr/>
              <p:nvPr/>
            </p:nvSpPr>
            <p:spPr>
              <a:xfrm>
                <a:off x="4117320" y="1177920"/>
                <a:ext cx="69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Comic Sans MS"/>
                  </a:rPr>
                  <a:t>Cl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84560" y="1149480"/>
                <a:ext cx="719280" cy="71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40" name=""/>
          <p:cNvCxnSpPr>
            <a:endCxn id="141" idx="4"/>
          </p:cNvCxnSpPr>
          <p:nvPr/>
        </p:nvCxnSpPr>
        <p:spPr>
          <a:xfrm flipV="1">
            <a:off x="3535200" y="4938480"/>
            <a:ext cx="494640" cy="33408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endCxn id="141" idx="4"/>
          </p:cNvCxnSpPr>
          <p:nvPr/>
        </p:nvCxnSpPr>
        <p:spPr>
          <a:xfrm flipH="1" flipV="1">
            <a:off x="4028400" y="4938480"/>
            <a:ext cx="83160" cy="123696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endCxn id="144" idx="4"/>
          </p:cNvCxnSpPr>
          <p:nvPr/>
        </p:nvCxnSpPr>
        <p:spPr>
          <a:xfrm flipV="1">
            <a:off x="4973400" y="4950720"/>
            <a:ext cx="121320" cy="840600"/>
          </a:xfrm>
          <a:prstGeom prst="straightConnector1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3189240" y="2362320"/>
            <a:ext cx="2598840" cy="1214280"/>
            <a:chOff x="3189240" y="2362320"/>
            <a:chExt cx="2598840" cy="1214280"/>
          </a:xfrm>
        </p:grpSpPr>
        <p:sp>
          <p:nvSpPr>
            <p:cNvPr id="146" name=""/>
            <p:cNvSpPr/>
            <p:nvPr/>
          </p:nvSpPr>
          <p:spPr>
            <a:xfrm>
              <a:off x="3190680" y="2364840"/>
              <a:ext cx="25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A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9240" y="2362320"/>
              <a:ext cx="2598840" cy="12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417920" y="2657520"/>
            <a:ext cx="728640" cy="718920"/>
            <a:chOff x="4417920" y="2657520"/>
            <a:chExt cx="728640" cy="718920"/>
          </a:xfrm>
        </p:grpSpPr>
        <p:sp>
          <p:nvSpPr>
            <p:cNvPr id="149" name=""/>
            <p:cNvSpPr/>
            <p:nvPr/>
          </p:nvSpPr>
          <p:spPr>
            <a:xfrm>
              <a:off x="4482360" y="29844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2"/>
              <a:endCxn id="151" idx="6"/>
            </p:cNvCxnSpPr>
            <p:nvPr/>
          </p:nvCxnSpPr>
          <p:spPr>
            <a:xfrm>
              <a:off x="4417920" y="3017520"/>
              <a:ext cx="72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4450680" y="2685960"/>
              <a:ext cx="69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7920" y="2657520"/>
              <a:ext cx="719280" cy="71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95720" y="3801960"/>
            <a:ext cx="2598480" cy="1332000"/>
            <a:chOff x="3195720" y="3801960"/>
            <a:chExt cx="2598480" cy="1332000"/>
          </a:xfrm>
        </p:grpSpPr>
        <p:cxnSp>
          <p:nvCxnSpPr>
            <p:cNvPr id="154" name=""/>
            <p:cNvCxnSpPr>
              <a:stCxn id="141" idx="2"/>
              <a:endCxn id="141" idx="6"/>
            </p:cNvCxnSpPr>
            <p:nvPr/>
          </p:nvCxnSpPr>
          <p:spPr>
            <a:xfrm>
              <a:off x="3668400" y="4579560"/>
              <a:ext cx="71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3668760" y="4219560"/>
              <a:ext cx="718920" cy="7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4" idx="2"/>
              <a:endCxn id="144" idx="6"/>
            </p:cNvCxnSpPr>
            <p:nvPr/>
          </p:nvCxnSpPr>
          <p:spPr>
            <a:xfrm>
              <a:off x="4733640" y="4592160"/>
              <a:ext cx="719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" name=""/>
            <p:cNvSpPr/>
            <p:nvPr/>
          </p:nvSpPr>
          <p:spPr>
            <a:xfrm>
              <a:off x="4734000" y="4232160"/>
              <a:ext cx="718920" cy="7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7160" y="3805200"/>
              <a:ext cx="25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Ma2MMb.a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5720" y="3801960"/>
              <a:ext cx="2598480" cy="13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7" idx="0"/>
            <a:endCxn id="130" idx="2"/>
          </p:cNvCxnSpPr>
          <p:nvPr/>
        </p:nvCxnSpPr>
        <p:spPr>
          <a:xfrm flipH="1" flipV="1">
            <a:off x="4487040" y="2009160"/>
            <a:ext cx="2520" cy="353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9" name=""/>
          <p:cNvCxnSpPr>
            <a:stCxn id="157" idx="0"/>
            <a:endCxn id="147" idx="2"/>
          </p:cNvCxnSpPr>
          <p:nvPr/>
        </p:nvCxnSpPr>
        <p:spPr>
          <a:xfrm flipH="1" flipV="1">
            <a:off x="4488840" y="3576240"/>
            <a:ext cx="6840" cy="226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0" name=""/>
          <p:cNvCxnSpPr>
            <a:stCxn id="84" idx="3"/>
            <a:endCxn id="87" idx="1"/>
          </p:cNvCxnSpPr>
          <p:nvPr/>
        </p:nvCxnSpPr>
        <p:spPr>
          <a:xfrm>
            <a:off x="2755440" y="5630400"/>
            <a:ext cx="3545640" cy="252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tailEnd len="lg" type="triangle" w="lg"/>
          </a:ln>
        </p:spPr>
      </p:cxnSp>
      <p:sp>
        <p:nvSpPr>
          <p:cNvPr id="161" name=""/>
          <p:cNvSpPr/>
          <p:nvPr/>
        </p:nvSpPr>
        <p:spPr>
          <a:xfrm>
            <a:off x="72000" y="448776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0200" y="449568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40560" y="18558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92000" y="182880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7840" y="75888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form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B935-5D9E-4A51-B22C-C244E088288A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perational context of AT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64000" y="1109520"/>
            <a:ext cx="5553720" cy="4529520"/>
            <a:chOff x="1764000" y="1109520"/>
            <a:chExt cx="5553720" cy="4529520"/>
          </a:xfrm>
        </p:grpSpPr>
        <p:sp>
          <p:nvSpPr>
            <p:cNvPr id="168" name=""/>
            <p:cNvSpPr/>
            <p:nvPr/>
          </p:nvSpPr>
          <p:spPr>
            <a:xfrm>
              <a:off x="3799080" y="1109520"/>
              <a:ext cx="134208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O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4000" y="2801880"/>
              <a:ext cx="144396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M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58280" y="2808360"/>
              <a:ext cx="14594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M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6200" y="4929120"/>
              <a:ext cx="96552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9840" y="4935600"/>
              <a:ext cx="98100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M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1" idx="0"/>
              <a:endCxn id="169" idx="2"/>
            </p:cNvCxnSpPr>
            <p:nvPr/>
          </p:nvCxnSpPr>
          <p:spPr>
            <a:xfrm flipV="1">
              <a:off x="2478960" y="3512520"/>
              <a:ext cx="9000" cy="1416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4" name=""/>
            <p:cNvCxnSpPr>
              <a:stCxn id="171" idx="3"/>
              <a:endCxn id="172" idx="1"/>
            </p:cNvCxnSpPr>
            <p:nvPr/>
          </p:nvCxnSpPr>
          <p:spPr>
            <a:xfrm>
              <a:off x="2941560" y="5284800"/>
              <a:ext cx="317736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0" idx="2"/>
            </p:cNvCxnSpPr>
            <p:nvPr/>
          </p:nvCxnSpPr>
          <p:spPr>
            <a:xfrm flipH="1" flipV="1">
              <a:off x="6587280" y="3519000"/>
              <a:ext cx="3960" cy="1416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6" name=""/>
            <p:cNvCxnSpPr>
              <a:stCxn id="169" idx="0"/>
              <a:endCxn id="168" idx="2"/>
            </p:cNvCxnSpPr>
            <p:nvPr/>
          </p:nvCxnSpPr>
          <p:spPr>
            <a:xfrm flipV="1">
              <a:off x="2487240" y="1820160"/>
              <a:ext cx="1983240" cy="981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7" name=""/>
            <p:cNvCxnSpPr>
              <a:stCxn id="170" idx="0"/>
              <a:endCxn id="168" idx="2"/>
            </p:cNvCxnSpPr>
            <p:nvPr/>
          </p:nvCxnSpPr>
          <p:spPr>
            <a:xfrm flipH="1" flipV="1">
              <a:off x="4469400" y="1820160"/>
              <a:ext cx="2118600" cy="988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8" name=""/>
            <p:cNvSpPr/>
            <p:nvPr/>
          </p:nvSpPr>
          <p:spPr>
            <a:xfrm>
              <a:off x="3278880" y="4757760"/>
              <a:ext cx="23814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Comic Sans MS"/>
                </a:rPr>
                <a:t>MMa2MMb.at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18240" y="2798640"/>
              <a:ext cx="1112040" cy="70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66"/>
                  </a:solidFill>
                  <a:latin typeface="Comic Sans MS"/>
                </a:rPr>
                <a:t>AT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9" idx="0"/>
              <a:endCxn id="168" idx="2"/>
            </p:cNvCxnSpPr>
            <p:nvPr/>
          </p:nvCxnSpPr>
          <p:spPr>
            <a:xfrm flipH="1" flipV="1">
              <a:off x="4469760" y="1820520"/>
              <a:ext cx="5760" cy="978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1" name=""/>
            <p:cNvCxnSpPr>
              <a:stCxn id="178" idx="0"/>
              <a:endCxn id="179" idx="2"/>
            </p:cNvCxnSpPr>
            <p:nvPr/>
          </p:nvCxnSpPr>
          <p:spPr>
            <a:xfrm flipV="1">
              <a:off x="4473000" y="3509640"/>
              <a:ext cx="2520" cy="12484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82" name=""/>
          <p:cNvSpPr/>
          <p:nvPr/>
        </p:nvSpPr>
        <p:spPr>
          <a:xfrm>
            <a:off x="-25200" y="214164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Ma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0360" y="573552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a is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02480" y="5761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b is the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arge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0400" y="2166840"/>
            <a:ext cx="193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MMB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DC7F-7BE2-4D75-907D-A54DD1172F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Introduc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scription of AT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verview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urce patter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 patter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xecution order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Example: Class to Relationa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Additional consider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Comic Sans MS"/>
              </a:rPr>
              <a:t>Conclus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D889-3720-4D4F-B267-B1A55FA2E3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Frédéric Jouault</dc:creator>
  <dc:description/>
  <dc:language>en-US</dc:language>
  <cp:lastModifiedBy>Kurtev</cp:lastModifiedBy>
  <dcterms:modified xsi:type="dcterms:W3CDTF">2006-07-17T11:30:16Z</dcterms:modified>
  <cp:revision>352</cp:revision>
  <dc:subject>The ATLAS Transformation Language</dc:subject>
  <dc:title>Transforming models with AT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